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E797-91FA-4B53-A218-379596801A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9A2-E865-4CC7-A75E-C01C5FC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507-9D73-4A0C-BD25-B23F5044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B27-8E02-46A2-801D-2840DA46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791-7033-49D4-8824-4CA5B826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27B-CD8F-493E-A4F7-B4329A9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64E-9B8D-4BD0-B96F-968EA85A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3E9-895D-4F76-A982-8FB65D39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ED4-F56F-4349-A479-587EFAFF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21C-7E11-47F2-A9C2-C6AECC26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AF2-D3A3-46A9-965D-8FEBAFA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972-D4C1-4820-B3E1-8BF838C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93D-5E8F-45BA-B563-E52AFBE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881-48BD-4F4A-A769-92BAD90DA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70520" y="1646280"/>
            <a:ext cx="86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87680" y="6311880"/>
            <a:ext cx="42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8280" y="6235560"/>
            <a:ext cx="139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E1CMPB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/07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9920" y="541440"/>
            <a:ext cx="23889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 21E10 “ROUND ROBIN”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37160" y="2046240"/>
            <a:ext cx="86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4880" y="1300320"/>
            <a:ext cx="94752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COO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4880" y="3402000"/>
            <a:ext cx="94752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TORIZ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0560" y="1314360"/>
            <a:ext cx="947880" cy="6098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TORIZ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AD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45360" y="3406680"/>
            <a:ext cx="947520" cy="6098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MODULE  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PERAT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AWL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AC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5720" y="1282680"/>
            <a:ext cx="9745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coop   Lo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3400" y="3403440"/>
            <a:ext cx="97488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Motorized Scra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Crawler Trac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89640" y="3403440"/>
            <a:ext cx="9748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Crawler Tra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8440" y="1262160"/>
            <a:ext cx="9745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1240" indent="-111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Motorized   Gr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276640" y="1926720"/>
            <a:ext cx="0" cy="14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38600" y="1590840"/>
            <a:ext cx="352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7360" y="1949400"/>
            <a:ext cx="0" cy="14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38600" y="3713040"/>
            <a:ext cx="352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2880" y="4830840"/>
            <a:ext cx="492768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ents will rotate between s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Station #3,  the last 2 hours will be conducted at Station #4  for push loading a scrap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on #4 requires  an instructor operator for the crawler tractor.  The instructor will push load the scrapers except for the last 2 hours of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7:49:12Z</dcterms:created>
  <dc:creator>Preferred Customer</dc:creator>
  <dc:description/>
  <dc:language>en-US</dc:language>
  <cp:lastModifiedBy>timothy.blake1</cp:lastModifiedBy>
  <cp:lastPrinted>1998-09-25T20:17:42Z</cp:lastPrinted>
  <dcterms:modified xsi:type="dcterms:W3CDTF">2006-04-10T17:26:26Z</dcterms:modified>
  <cp:revision>21981</cp:revision>
  <dc:subject/>
  <dc:title>No Slide Title</dc:title>
</cp:coreProperties>
</file>